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4211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904760" y="42534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284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04760" y="42534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62840" y="42534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20560" y="190512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6360" y="190512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904760" y="42534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120560" y="42534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6360" y="42534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04760" y="190512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eb5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62840" y="190512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eb5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62840" y="190512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04760" y="42534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904760" y="190512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eb5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6284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62840" y="42534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6284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42534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04760" y="42534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6284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42534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62840" y="42534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20560" y="190512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36360" y="190512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04760" y="42534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120560" y="42534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36360" y="42534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62840" y="190512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eb5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2840" y="190512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904760" y="42534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84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62840" y="42534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5932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840" y="190512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04760" y="42534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eb5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0512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c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  <a:p>
            <a:pPr lvl="1" marL="1080">
              <a:spcBef>
                <a:spcPts val="29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c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  <a:p>
            <a:pPr lvl="2" marL="28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c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  <a:p>
            <a:pPr lvl="3" marL="5760" indent="-1440">
              <a:spcBef>
                <a:spcPts val="29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c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  <a:p>
            <a:pPr lvl="4" marL="502560" indent="-325440">
              <a:spcBef>
                <a:spcPts val="2999"/>
              </a:spcBef>
              <a:buClr>
                <a:srgbClr val="ff5353"/>
              </a:buClr>
              <a:buSzPct val="80000"/>
              <a:buFont typeface="Zapf Dingba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c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  <a:p>
            <a:pPr lvl="5" marL="502560" indent="-325440">
              <a:spcBef>
                <a:spcPts val="2999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c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  <a:p>
            <a:pPr lvl="6" marL="502560" indent="-325440">
              <a:spcBef>
                <a:spcPts val="2999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c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7920"/>
            <a:ext cx="1447920" cy="68500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eb58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aeb58"/>
              </a:solidFill>
              <a:latin typeface="Times New Roman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24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4680" algn="ctr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96920" algn="ctr">
              <a:spcBef>
                <a:spcPts val="1250"/>
              </a:spcBef>
              <a:buClr>
                <a:srgbClr val="ff5353"/>
              </a:buClr>
              <a:buSzPct val="80000"/>
              <a:buFont typeface="Zapf Dingba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96920">
              <a:spcBef>
                <a:spcPts val="499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96920">
              <a:spcBef>
                <a:spcPts val="499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phdskills.open.ac.uk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600" spc="-1" strike="noStrike">
                <a:solidFill>
                  <a:srgbClr val="00cc99"/>
                </a:solidFill>
                <a:latin typeface="Arial"/>
              </a:rPr>
              <a:t>PhD Skills Scheme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979280" y="4437000"/>
            <a:ext cx="6769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f1fd"/>
                </a:solidFill>
                <a:latin typeface="Arial"/>
              </a:rPr>
              <a:t>Update &amp; Faculty Briefing Session</a:t>
            </a:r>
            <a:endParaRPr b="0" lang="en-US" sz="2400" spc="-1" strike="noStrike">
              <a:solidFill>
                <a:srgbClr val="faeb58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f1fd"/>
                </a:solidFill>
                <a:latin typeface="Arial"/>
              </a:rPr>
              <a:t>September 2005</a:t>
            </a:r>
            <a:endParaRPr b="0" lang="en-US" sz="24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0574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495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826920" y="476280"/>
          <a:ext cx="7921440" cy="5927400"/>
        </p:xfrm>
        <a:graphic>
          <a:graphicData uri="http://schemas.openxmlformats.org/drawingml/2006/table">
            <a:tbl>
              <a:tblPr/>
              <a:tblGrid>
                <a:gridCol w="3792600"/>
                <a:gridCol w="4128840"/>
              </a:tblGrid>
              <a:tr h="14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ac00"/>
                          </a:solidFill>
                          <a:latin typeface="Arial"/>
                        </a:rPr>
                        <a:t>Skills audi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 skills that need to be acquired, or develop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ac00"/>
                          </a:solidFill>
                          <a:latin typeface="Arial"/>
                        </a:rPr>
                        <a:t>Development planning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y when and how the skills will be develop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ac00"/>
                          </a:solidFill>
                          <a:latin typeface="Arial"/>
                        </a:rPr>
                        <a:t>Evidence Building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competence is gained, accruing evidence into the Progress Fi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ac00"/>
                          </a:solidFill>
                          <a:latin typeface="Arial"/>
                        </a:rPr>
                        <a:t>Assessmen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assessed as a basis of progression from yea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62616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aeb58"/>
                </a:solidFill>
                <a:latin typeface="Arial"/>
              </a:rPr>
              <a:t>Dr Marian Petre</a:t>
            </a:r>
            <a:endParaRPr b="0" lang="en-US" sz="44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6360" y="5013000"/>
            <a:ext cx="7236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ac00"/>
                </a:solidFill>
                <a:latin typeface="Arial"/>
              </a:rPr>
              <a:t>Maths and Computing</a:t>
            </a: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6480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5ff3f3"/>
                </a:solidFill>
                <a:latin typeface="Arial"/>
              </a:rPr>
              <a:t>New Assessment scheme</a:t>
            </a:r>
            <a:endParaRPr b="0" lang="en-US" sz="54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000" y="2276640"/>
            <a:ext cx="7056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184464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76360" y="836640"/>
            <a:ext cx="70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58920" y="476280"/>
          <a:ext cx="6983280" cy="5724360"/>
        </p:xfrm>
        <a:graphic>
          <a:graphicData uri="http://schemas.openxmlformats.org/drawingml/2006/table">
            <a:tbl>
              <a:tblPr/>
              <a:tblGrid>
                <a:gridCol w="1297080"/>
                <a:gridCol w="1224000"/>
                <a:gridCol w="2736720"/>
                <a:gridCol w="1725480"/>
              </a:tblGrid>
              <a:tr h="4971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dlin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ssuming October sta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ll-time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-time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bation re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ne (end of month 9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ne of 2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year (end of month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-v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ly (end of month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ly of 2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year (end of month 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ly (end of month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ly of 2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year (end of month 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ary of PhD Skills Progress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Skills Au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ember (end of month 3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rch (end of month 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F for Probation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ne (end of month 9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ne of 2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year (end of month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62616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aeb58"/>
                </a:solidFill>
                <a:latin typeface="Arial"/>
              </a:rPr>
              <a:t>Meet the mentors….</a:t>
            </a:r>
            <a:endParaRPr b="0" lang="en-US" sz="44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76360" y="5013000"/>
            <a:ext cx="7236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1700280"/>
            <a:ext cx="6626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aeb58"/>
                </a:solidFill>
                <a:latin typeface="Arial"/>
              </a:rPr>
              <a:t>Claire Kotecki</a:t>
            </a:r>
            <a:br>
              <a:rPr sz="4400"/>
            </a:br>
            <a:br>
              <a:rPr sz="4400"/>
            </a:br>
            <a:r>
              <a:rPr b="1" lang="en-GB" sz="2800" spc="-1" strike="noStrike">
                <a:solidFill>
                  <a:srgbClr val="5ff3be"/>
                </a:solidFill>
                <a:latin typeface="Arial"/>
              </a:rPr>
              <a:t>Research student, Biology</a:t>
            </a:r>
            <a:endParaRPr b="0" lang="en-US" sz="28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76360" y="5013000"/>
            <a:ext cx="7236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384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September 25</a:t>
            </a:r>
            <a:r>
              <a:rPr b="1" lang="en-GB" sz="2400" spc="-1" strike="noStrike" baseline="30000">
                <a:solidFill>
                  <a:srgbClr val="66ffff"/>
                </a:solidFill>
                <a:latin typeface="Arial"/>
                <a:ea typeface="Times New Roman"/>
              </a:rPr>
              <a:t>th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Version-1 approved for 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launch at PGR  induction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October 5</a:t>
            </a:r>
            <a:r>
              <a:rPr b="1" lang="en-GB" sz="2400" spc="-1" strike="noStrike" baseline="30000">
                <a:solidFill>
                  <a:srgbClr val="66ffff"/>
                </a:solidFill>
                <a:latin typeface="Arial"/>
                <a:ea typeface="Times New Roman"/>
              </a:rPr>
              <a:t>th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Insertion of OU brand &amp; 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design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October 11</a:t>
            </a:r>
            <a:r>
              <a:rPr b="1" lang="en-GB" sz="2400" spc="-1" strike="noStrike" baseline="30000">
                <a:solidFill>
                  <a:srgbClr val="66ffff"/>
                </a:solidFill>
                <a:latin typeface="Arial"/>
                <a:ea typeface="Times New Roman"/>
              </a:rPr>
              <a:t>th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Student Induction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February 2006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Development of e-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portfolio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October 2006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Version-2 with e-portfolio 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launched</a:t>
            </a: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056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Arial"/>
              </a:rPr>
              <a:t>What you need to do now ?</a:t>
            </a:r>
            <a:endParaRPr b="0" lang="en-US" sz="40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056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Author your own pilot 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materials as required</a:t>
            </a:r>
            <a:r>
              <a:rPr b="1" lang="en-AU" sz="18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endParaRPr b="1" lang="en-US" sz="1800" spc="-1" strike="noStrike">
              <a:solidFill>
                <a:srgbClr val="00ac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      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Organise briefings for  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supervisors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 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Implement new probation/ 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assessment procedures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056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Arial"/>
              </a:rPr>
              <a:t>Now …</a:t>
            </a:r>
            <a:endParaRPr b="0" lang="en-US" sz="40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056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ry for yourself 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 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Discuss implications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  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Discuss plans for supervisor 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briefing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1483920"/>
            <a:ext cx="705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aeb58"/>
                </a:solidFill>
                <a:latin typeface="Arial"/>
              </a:rPr>
              <a:t>Prof. B. R. Heywood</a:t>
            </a:r>
            <a:endParaRPr b="0" lang="en-US" sz="54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6360" y="5013000"/>
            <a:ext cx="7236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ac00"/>
                </a:solidFill>
                <a:latin typeface="Arial"/>
              </a:rPr>
              <a:t>PVC, Research &amp; Staff</a:t>
            </a: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193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Arial"/>
              </a:rPr>
              <a:t>Purpose of this Event ?</a:t>
            </a:r>
            <a:endParaRPr b="0" lang="en-US" sz="40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12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0"/>
              </a:spcBef>
              <a:buClr>
                <a:srgbClr val="55f1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55f1fd"/>
                </a:solidFill>
                <a:latin typeface="Arial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55f1fd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Introduce new ‘skills oriented’ 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training for doctoral 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candidates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55f1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 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Offer </a:t>
            </a:r>
            <a:r>
              <a:rPr b="1" i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organic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 programme 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which is ‘fit for purpose’</a:t>
            </a:r>
            <a:r>
              <a:rPr b="1" lang="en-AU" sz="1800" spc="-1" strike="noStrike">
                <a:solidFill>
                  <a:srgbClr val="55f1fd"/>
                </a:solidFill>
                <a:latin typeface="Arial"/>
                <a:ea typeface="Times New Roman"/>
              </a:rPr>
              <a:t>	</a:t>
            </a:r>
            <a:endParaRPr b="1" lang="en-US" sz="1800" spc="-1" strike="noStrike">
              <a:solidFill>
                <a:srgbClr val="00ac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55f1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 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Provide clear guidance for 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55f1fd"/>
                </a:solidFill>
                <a:latin typeface="Arial"/>
                <a:ea typeface="Times New Roman"/>
              </a:rPr>
              <a:t>staff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985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aeb58"/>
                </a:solidFill>
                <a:latin typeface="Arial"/>
              </a:rPr>
              <a:t>What’s it for?</a:t>
            </a:r>
            <a:endParaRPr b="0" lang="en-US" sz="48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47640" y="1267920"/>
            <a:ext cx="691056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55f1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Research &amp; generic skills </a:t>
            </a: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development </a:t>
            </a:r>
            <a:endParaRPr b="1" lang="en-US" sz="36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c00"/>
              </a:solidFill>
              <a:latin typeface="Arial"/>
            </a:endParaRPr>
          </a:p>
          <a:p>
            <a:pPr lvl="1" marL="1440">
              <a:buClr>
                <a:srgbClr val="55f1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     </a:t>
            </a: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Revised arrangeme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for progression &amp; </a:t>
            </a: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assess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(approved OU-RB 200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55f1fd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6985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aeb58"/>
                </a:solidFill>
                <a:latin typeface="Arial"/>
              </a:rPr>
              <a:t>Why?</a:t>
            </a:r>
            <a:endParaRPr b="0" lang="en-US" sz="48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8000" y="162828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buClr>
                <a:srgbClr val="55f1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f1fd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5f1f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55f1fd"/>
                </a:solidFill>
                <a:latin typeface="Arial"/>
              </a:rPr>
              <a:t>Improve support offered to </a:t>
            </a:r>
            <a:r>
              <a:rPr b="1" lang="en-GB" sz="2800" spc="-1" strike="noStrike">
                <a:solidFill>
                  <a:srgbClr val="55f1f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55f1fd"/>
                </a:solidFill>
                <a:latin typeface="Arial"/>
              </a:rPr>
              <a:t>doctoral candidates</a:t>
            </a: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5f1f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55f1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5f1fd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55f1fd"/>
                </a:solidFill>
                <a:latin typeface="Arial"/>
              </a:rPr>
              <a:t>Entrepreneurial potential</a:t>
            </a: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55f1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5f1fd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55f1fd"/>
                </a:solidFill>
                <a:latin typeface="Arial"/>
              </a:rPr>
              <a:t>QAA audit</a:t>
            </a: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55f1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5f1f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55f1fd"/>
                </a:solidFill>
                <a:latin typeface="Arial"/>
              </a:rPr>
              <a:t>RAE 2008 submission</a:t>
            </a: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62616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aeb58"/>
                </a:solidFill>
                <a:latin typeface="Arial"/>
              </a:rPr>
              <a:t>Professor Wendy Stainton Rogers</a:t>
            </a:r>
            <a:endParaRPr b="0" lang="en-US" sz="44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6360" y="5013000"/>
            <a:ext cx="7236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ac00"/>
                </a:solidFill>
                <a:latin typeface="Arial"/>
              </a:rPr>
              <a:t>Academic Co-ordinator, Research School</a:t>
            </a: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48324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66"/>
                </a:solidFill>
                <a:latin typeface="Arial"/>
              </a:rPr>
              <a:t>PhD Skills Schema</a:t>
            </a:r>
            <a:endParaRPr b="0" lang="en-US" sz="48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2276640"/>
            <a:ext cx="763272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0"/>
              </a:spcBef>
              <a:buClr>
                <a:srgbClr val="00a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ac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ac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Interaction with organic web-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based tool; 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hDSkills.open.ac.uk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Accessible to all OU staff and  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postgraduate students through  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log-in procedures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483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66"/>
                </a:solidFill>
                <a:latin typeface="Arial"/>
              </a:rPr>
              <a:t>PhD Skills Schema</a:t>
            </a:r>
            <a:endParaRPr b="0" lang="en-US" sz="48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1280" y="1700280"/>
            <a:ext cx="763272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0"/>
              </a:spcBef>
              <a:buClr>
                <a:srgbClr val="00a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ac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ac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V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ersion 1 of the scheme launched  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2005/6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Everything open  to  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improvement 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We need feedback to help us  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ffff"/>
                </a:solidFill>
                <a:latin typeface="Arial"/>
              </a:rPr>
              <a:t>fine tune </a:t>
            </a:r>
            <a:endParaRPr b="1" lang="en-US" sz="3200" spc="-1" strike="noStrike">
              <a:solidFill>
                <a:srgbClr val="0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67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66"/>
                </a:solidFill>
                <a:latin typeface="Arial"/>
              </a:rPr>
              <a:t>Skills Development</a:t>
            </a:r>
            <a:endParaRPr b="0" lang="en-US" sz="6600" spc="-1" strike="noStrike">
              <a:solidFill>
                <a:srgbClr val="faeb5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000" y="2276640"/>
            <a:ext cx="7056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00ac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184464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13:25:21Z</dcterms:created>
  <dc:creator>SHSW</dc:creator>
  <dc:description/>
  <dc:language>en-US</dc:language>
  <cp:lastModifiedBy>kmi-demo</cp:lastModifiedBy>
  <cp:lastPrinted>2002-04-23T13:17:30Z</cp:lastPrinted>
  <dcterms:modified xsi:type="dcterms:W3CDTF">2005-09-12T08:32:03Z</dcterms:modified>
  <cp:revision>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4227327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J:\Intranet\Design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6711935</vt:r8>
  </property>
</Properties>
</file>